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3194-7250-4627-9FDE-754AC81A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BB68-D857-4ACF-99BB-891DF62D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EDB5-AAB3-4432-83A3-4DB78E80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097-C85B-40D1-90FE-6F62A67F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A4F3-B4FC-4381-B277-0BD20E67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47E-1E4D-4B86-8BE2-DF3D876C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862E-4F5C-4C92-AFF5-029325FD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8E7E-39CE-472A-9A0E-C532895E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4907-B5CB-4A60-AB36-DD095817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64F8-2501-4363-8A8C-EBBCED84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2E80-CA6B-46B3-8770-2A75BC48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DBD3-00C9-430F-ADC6-BF6D7F36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ir@mrreddy.co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FD08-3D8B-46D8-B003-DDAD135360C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1.)  2 x n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10.)  2y x y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11.)  4p x p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642160" cy="29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12.)  y x z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(y times z)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13.)  w x f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14.)  2n x p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2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3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2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2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4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GB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en-GB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2y</a:t>
            </a:r>
            <a:r>
              <a:rPr b="0" lang="en-GB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4p</a:t>
            </a:r>
            <a:r>
              <a:rPr b="0" lang="en-GB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yz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f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406160" indent="-1406160">
              <a:spcBef>
                <a:spcPts val="901"/>
              </a:spcBef>
              <a:buClr>
                <a:srgbClr val="ffffff"/>
              </a:buClr>
              <a:buFont typeface="Tahoma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2n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2.)  4 x 3p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3.)  -3 x n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4.)  -1 x 2p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5.)  4 x 3y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6.)  4 x -y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7.)  c x c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8.)  f x f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9.)  g x g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1:46:17Z</dcterms:created>
  <dc:creator>Bruno Reddy</dc:creator>
  <dc:description/>
  <dc:language>en-US</dc:language>
  <cp:lastModifiedBy>Bruno Reddy</cp:lastModifiedBy>
  <dcterms:modified xsi:type="dcterms:W3CDTF">2005-10-10T22:00:18Z</dcterms:modified>
  <cp:revision>2</cp:revision>
  <dc:subject/>
  <dc:title>1.)  2 x n</dc:title>
</cp:coreProperties>
</file>